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6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6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 type="sldNum" idx="6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D1CE-FA1A-4686-B5BA-19B8DE6C579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733-397F-4573-87D0-F59EA6C4F3A0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1A4-760C-49C5-95C7-2561A10A0886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87D-21E7-4FF9-BCC6-4E4B2B7D4F24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AB1-920C-47F9-9C5C-98881911B6C2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F0C8-3C46-425A-A97A-BE9B5F8A884A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A49-9283-496A-9571-A3C368C9BF51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E39-FBD9-4852-88B9-6415C63ADD93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848B-5841-4684-9628-A6FCBF826B27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E5A-544B-414C-BA75-64641851D2FD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439-C2C0-418E-8225-20B7BAB115FA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E8E-30BF-4B3E-B2F9-642E63162B87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4E2-5D9A-4BC5-AF15-8C8435E8296E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B4B9-D309-4C3D-9733-30D248814579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19D-EBCF-40D7-A692-F670B9BC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9AB-2E58-42DF-B8FD-D3D96E7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E3C58-7116-44B1-BB24-D5326B0A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4ABC-22A3-4131-BD00-6B92ED27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623FF-8FBF-44BB-93D8-BDCB323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5CCC6-A941-4A2C-A2AD-D96CB504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E490-6CFE-4F55-B899-85962513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15916-981D-4D79-9990-8382071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BC8B-8088-424C-9AEE-5CF5BAF1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60C8C-6D85-44AF-BF81-EB825FB0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617A7-432F-4ABD-832D-35FBCC23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D714-A485-4FCC-9DB0-C3335DE8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DD5-9A0C-4242-BC46-B165C25D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1833-7CAF-4392-9522-5D7DE72D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9FD55-39D1-4185-84FE-FC15E7D8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2FCCF-32F8-4E48-8DDB-685CAEB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69343-F527-48C3-9FCC-0D692951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CB2D2-D90E-4B4C-9ABF-20B672C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4E5E1-29A7-4EE4-9442-AE5A827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9242-8BD1-49CB-93E2-644813C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07EBF-5273-4972-8776-C0C45EDE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59881-5D35-4778-927E-BC7B2E54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C485-1C89-4A86-8829-7CCD35E1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B38-1E52-450B-9DC9-B82E88AE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AD54F-3601-46D1-9B7A-A1204C7D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2DE4B-5CF1-4554-99B7-F78D7A44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0E9A-108B-46C3-AB5C-33FD7BC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3F5FC-F444-4E37-8ECA-2637F67C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0B499-3E6C-412D-95CE-C70412F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7D93-D914-47F5-81C9-B6EF695F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536FF-968E-4BB8-8979-66998D5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342A-38A5-436F-8044-AE4E94C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DF8F-AED8-43B6-B3DB-D2FF5B0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77AD-283C-4258-BCD7-DD7AAFA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F6A8-9275-4FB2-88E5-14332BA0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D0AEC-2B95-44C8-8BBF-27F6082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F1615-6E5B-4B46-8A5C-F21CA69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F9FBA-4F26-4E00-A40F-6D4582F9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DDB37-D7A3-4F8A-9500-9D039A12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74F82-E0C6-4343-BDA0-DDD41F4A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2084-683E-4ED1-B0FB-9A630652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6FAC9-DB10-4448-BE43-0F47DB21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9AD8-1B64-4DFF-966E-77DAF05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F91B0-1139-434C-9362-0648BF6E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2564F-458F-4BAB-B284-429CFC2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5FFE-868C-4591-9534-369184A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B0FAE-A74B-453F-A539-9CAFA19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E41D-6598-47B1-98FB-3707972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1FB1C-6405-4F9F-B883-91BF2940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A73B4-D0F7-4D0C-9AF1-3A38D370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F51FE-51DD-42E1-B805-9C893793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8AA39-1B4E-4C0D-A9A2-C0671BCF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8B599-3086-4FED-A4E9-08809F5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F32EE-DF8B-4A70-A65B-514E698A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21955-BBEC-4F63-8CE5-DC91468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A6046-8E9E-4C97-84A3-5A54F5C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B626-9C92-400B-A272-97DB7F8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6B8AD-03E3-433D-B3D2-0090CD2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FB91F-B8E5-4662-8707-8C1FD6A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AB868-7895-4137-8730-9F3F678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73786-E276-47DF-9A6E-E12361D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2D83B-6CE4-4671-8048-A55ED12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BDCF9-255E-47FF-8A01-D3B49639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897BF-E280-4B5D-8E78-4579EF25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3EB14-9D28-4472-8C17-18C5C1E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8B0F5-76DF-44E7-8BF9-EC7FA9D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41670-5C2C-4D45-B577-39FEA56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6E96-1810-4F9D-A8DF-BFAEF1A8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3AF20-4C19-47B5-A1DF-55190F06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F8154-DA6A-451E-85C9-141FB0F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315A9-089E-4C9C-BE73-C162662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46A92-0AA4-4DFC-B04D-8406822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F1A98-C821-4313-AE4C-D7AB0F3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8DE3A-4AEE-426B-988A-30C22CA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7D35A-4FC3-46D0-B55E-BA139D67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84891-68BE-4A25-A359-D53F40D5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ACE7E-6ECB-43F8-AE79-557C3DAE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8DA81-3158-42E5-9BAD-463A9F53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F86-6C61-4244-8808-FF89EBD8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E4FD-65F1-4332-A0A4-19C86901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A1FA8-B644-4B49-AC66-C9B6880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413B2-E4AD-4DF9-B36B-46A0F52F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E62FF-ADD3-4EDA-92C6-77FC762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6B9B8-7221-4604-868C-4B0D162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FE2C7-8915-4A67-8DA1-AED953D5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01B97-8359-4EA3-90EC-DA3F5CA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89EF0-A2E7-4BDD-BBCD-D62CDD3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F6D21-7660-4607-AD7D-F1F8C0D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48769-C198-49E8-B285-21065899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4BBE-FD10-424E-9641-6554F38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56B28-A7FF-411D-9F2A-23237CC2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07468-B023-4796-8A13-65E4C7C5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DB601-A6D1-4CA2-A5C9-50A27A8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FCB5E-8461-4F15-A8B0-3EA1BAB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C0E55-68E2-4FB0-8B54-2A538CB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B6E24-7BE1-4059-A03E-C2F359C3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88248-7776-4886-9677-149B0AC8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F04EA-6C92-47A9-9027-401AA84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7F44-6ABB-40A1-A623-5C93814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0BFC4-4A72-42B0-BEE8-DC62A2A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DC9-6D61-48C9-87C4-FEAF183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B740B-9D50-4C6A-91C0-BD92001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DA457-B937-43EB-AB16-C5BB1CC1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B97B7-F473-4B76-BDB5-49DB3565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D0D7E-71C5-489E-8C37-676575E8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797F3-F786-41A4-9EE7-C251431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695D5-EA0D-4EC5-AD56-907B1C4F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D3C43-D2F5-44C1-843A-2A9AA0E6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B28F0-C8C2-4190-A204-6C24465C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021DF-5741-4ED3-AA30-51FD26B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08B0F-341A-46FA-B96F-C15B972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8DC-90D7-4889-A430-3DE1005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385-1BFA-449F-B064-6044816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1B856-8EF7-470A-812B-B7BC4E7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7F0EB-0DA8-4427-91C3-8331F15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8CC3A-94AF-4E70-BF45-B010080A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591C6-BF78-4FC2-B44C-7F50641B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4A574-DD03-4ECA-AFCA-2828B9BC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22E50-349C-4D86-9293-C319DE16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E3BFA-81EE-493A-A82E-EE9B064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BA606-9910-4B73-A595-4128EDD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6C993-C531-446B-B65F-80EE1E76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7F2DF-1C38-445B-BE4C-43F30D8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97F0-2FA1-4677-AE61-A61F59B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07F6E-8D85-4DA0-AE3E-381F5EF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87D37-5EF0-4354-AE69-6E24FCE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1330E-ABAB-4FB8-B00B-AB2EBB8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C6558-4701-4A34-BC7E-78FB122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2CE0E-C790-4F40-8FF0-7D701D9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8979C-3707-402E-9513-A4F375BC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9D903-F5CF-4024-95CC-F4F0089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DAD87-D4DE-4EAD-B5A5-32E96CE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90C78-48DD-48B0-9760-46A099A9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3F4A8-F7D1-446D-A12B-971D02F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4C2C-98EF-4124-A3EF-888027EF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B3120-22FA-47BC-AEB5-F59C02D0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F82F7-AB9D-454D-82F9-B99656A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5EB07-0828-4A73-923D-897906A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CD07D-EC89-4A1C-B697-F83EB82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09641-6A98-41DB-B8BC-C0FD710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86A9F-8907-4162-B8DF-91336AA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CDBD6-9812-4417-B002-DD3A680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114B6-2089-4A7A-B4C0-9680A07E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8DB76-89C2-4746-A9F5-6D2C6CF3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A9552-99EB-4F52-83CD-EFD1D08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0103-FEB3-4A96-9296-C8C0D6D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52BCE-98C1-44C9-A062-8F839E0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65280-9799-45CF-AA6A-1F550EE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F87B4-3CE4-42FA-90AC-B1B7F0F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F8C3E-CB6C-43D3-84B6-D0519FF5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D4BE9-C9E4-47DA-9049-D153DED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6D34E-A93F-412E-A3FD-A21053A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B8A59-2CB7-4AAA-8288-A0D666B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61E86-F600-427C-BB2F-BE463A5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0F9A8-1FEA-4F00-A220-96FBEFC5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B0BA2-716B-45D1-A7FF-B931634A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A083-38DE-4250-BEA2-46C6F47A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1F5CD-1DA1-4A08-92E3-AD7F161C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4D85D-DEC6-4E09-9219-A7E5756C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F8DCDE-043A-4B61-A209-BA2C4BD8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3D6551-39C9-4F74-9617-89283EF0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6E5C4-1993-4200-871A-8EAB1D3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37ACA-05C2-412C-98C1-BB9A72D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2BB19-F824-4EDC-934A-1BAA3B8B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BB635-0963-4F3F-9FD2-1EC62E7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F1CCD-0E7A-45BC-9525-8CA467D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F081F-DDBB-4DB3-9E6E-BC48F3F9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895B-E7EB-4B25-AAF9-D88044E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BB454-C30F-475B-BD0F-10F7DC9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7D6E0-2A56-4A0A-BF47-C2D15782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E8818-8206-4490-BC68-5BAD5345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3C71D-830F-44AD-8E12-F92ED23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65F0E-D786-481D-A2D1-3C9E74DC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D5539-69CE-4E03-A952-1CB0D7F3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86B552-CD7E-499A-A52D-8BD712D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15EFB-970A-454B-A37B-B4190BC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17FE2-9EBC-4B95-BEC6-03F3069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D85FF-E0BD-4403-AC5A-131B38C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E5DB-C873-4C7C-B510-289DFCA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4D797-0151-4A6B-B25F-204B0FA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92B607-21B1-493C-ABF9-409E696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DBF53-7202-40E9-BA87-FE75883D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E8A9F-AACA-49B2-A32D-F961C6C8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A375E-0261-45A7-9743-F2D79B89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4920-844F-45FA-B634-7EF4A57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A769-FAE2-4349-8AE1-A40B70F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541C-C49A-41D5-B3D5-D114DA3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445-62DF-4896-923D-C4F5166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8E39-9179-412D-90F2-7AA9C53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1F1A-74B9-4648-BD5B-AE3A649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FF52-E9C7-42A5-9ADD-17F7884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6C5D-C3DF-48BB-AFC4-A42B594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0C71-3624-4F37-9A6B-5DDB67DC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61D6-F6EF-4760-8D7D-5F248F46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EE2F-1AF4-4E42-8DE4-029B0383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7C87C-D069-45BF-9B88-03F90065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77AF7-3260-4096-895C-00D63211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F78DD-D92F-4938-AE01-71493DC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501-5F38-4DFC-A72F-AA758B1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C76F7-A1F7-4573-A28D-1DF1841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4DFA3-72DC-47D0-AF16-3F02582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8E039-AAC7-499E-91C3-5F8DD70A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62623-3A7C-4102-9C8E-8340811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085FC-AC11-4A87-AD05-3EAA409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3B251-BCDF-4CE8-B31F-282C24C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36B00-CA6D-4E5C-AAF9-8EC14E1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E9249-91B5-4385-9404-BB924933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4E045-8A5D-43E7-97D8-4C64E93B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ACE9-4ECB-4331-877E-F14F80D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575-2C15-4060-917F-376CD598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87E5-698E-40B5-8EC2-9EF3CFF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338C-BF93-4FCB-8ACA-060C0178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92E2-6742-4A4D-B73E-0C24D03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AF33D-66AB-4E63-94AC-0CAC7DD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81D6-91B1-455E-B9C1-C0F50EC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FA84-6966-4932-A3EC-416AD56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43C2-CCB0-4EA7-80FB-239DE324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9DC5-94D3-4302-821A-0D800A9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E4B9-FE41-48DF-A514-10706E3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5D519-BDF7-4227-A33B-3C090DCE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1B2-78CE-4152-8C07-5F5FC3B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1C93-D98B-4A88-979B-A0948878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2EA3-3F10-4DE3-882A-F7ED3A6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3397-F251-460E-9DEA-2F6FB0D8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A6C9-A8B9-49C8-8D72-9F1EA7E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1FAE-766E-4D9F-91F9-5D09247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057D-1FE3-46D6-BF62-09F0415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E931-A646-47CD-9E40-7A474110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5BB0-2D75-4115-8A91-2B18D62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8526-832C-43A5-AC5C-071B46CA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0638-156D-4B6C-89FB-4621B0F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E54-F564-4518-8071-F6BA95D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B41E-0983-47F0-BAF0-042CB56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054B-C44E-4885-AA8D-6FB1A9BB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DCAD-C645-40B2-A224-0D938020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4246-E20D-4253-85D9-2C836A1B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9AD1-D034-429F-AB1A-82F5781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5065-99AD-43CD-8423-A06D6E3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69BD-34D4-4E1C-B755-7133DC99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483D-4011-4DBD-8539-1C634991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E055-7F8B-43FF-8E57-C3498350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F7EC7-0D4D-4C14-BD18-4ECB7B3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ACF-F206-459F-9417-24F0C71D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3E8B-4CFD-47EB-A15B-577B987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51F07-D6AD-4663-A403-266D6875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E569-F0B1-4096-B57A-1B6F1BF6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E962B-7103-49F0-88C3-BC609E59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AD83B-6195-4973-A611-42EA6F8B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4A3C-5241-48DE-99DA-EC81D7E8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75793-0AF1-4BB0-8982-119977F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D990A-FF85-4B13-B774-11BAF3A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6099-E806-4227-96C2-0CA2A58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AE75-3108-4773-98DE-B2026F33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E4A-927E-4F68-A231-CBA08B2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1B812-8710-4346-BD5E-E2F71AE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7778-47E9-4EE1-8655-4DC9DDF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39014-056F-4C1C-A78A-1115BEE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43A0-9911-4BD9-8472-5BD37BB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2E71-8B13-45B4-8460-064EDE4C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022C-4193-4749-93C8-97A7A2BC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031A9-2A6A-4CE4-B61F-F8B119D1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1BEC2-9C9B-4EEF-86F9-1F2D7DCA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E56D1-F075-4107-8158-F112CF49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A597A-9AA8-4807-B711-6D41F89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626-DA65-4FCC-81AA-C8765B215F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EA45-F9E7-4F00-8B91-1C69C7F8E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6BA-F25D-4E43-BF9A-94A4438D6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14C-4E22-4B9C-A4C6-F7873DB94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9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294-0C94-4529-B2C3-F2D4F79374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5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7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4E73-E3C6-4DEE-A48F-B525B3A8C9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73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3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3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4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74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53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7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9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0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2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3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4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75" name="Group 42"/>
          <p:cNvGrpSpPr/>
          <p:nvPr/>
        </p:nvGrpSpPr>
        <p:grpSpPr>
          <a:xfrm>
            <a:off x="-654480" y="-4680"/>
            <a:ext cx="10459080" cy="7117200"/>
            <a:chOff x="-654480" y="-4680"/>
            <a:chExt cx="10459080" cy="7117200"/>
          </a:xfrm>
        </p:grpSpPr>
        <p:grpSp>
          <p:nvGrpSpPr>
            <p:cNvPr id="776" name="Group 44"/>
            <p:cNvGrpSpPr/>
            <p:nvPr/>
          </p:nvGrpSpPr>
          <p:grpSpPr>
            <a:xfrm>
              <a:off x="-9360" y="-4680"/>
              <a:ext cx="9144360" cy="6858000"/>
              <a:chOff x="-9360" y="-4680"/>
              <a:chExt cx="9144360" cy="6858000"/>
            </a:xfrm>
          </p:grpSpPr>
          <p:grpSp>
            <p:nvGrpSpPr>
              <p:cNvPr id="777" name="Group 4"/>
              <p:cNvGrpSpPr/>
              <p:nvPr/>
            </p:nvGrpSpPr>
            <p:grpSpPr>
              <a:xfrm>
                <a:off x="-9360" y="-4680"/>
                <a:ext cx="2514600" cy="6858000"/>
                <a:chOff x="-9360" y="-4680"/>
                <a:chExt cx="2514600" cy="6858000"/>
              </a:xfrm>
            </p:grpSpPr>
            <p:sp>
              <p:nvSpPr>
                <p:cNvPr id="778" name="Rectangle 114"/>
                <p:cNvSpPr/>
                <p:nvPr/>
              </p:nvSpPr>
              <p:spPr>
                <a:xfrm>
                  <a:off x="90504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9" name="Rectangle 2"/>
                <p:cNvSpPr/>
                <p:nvPr/>
              </p:nvSpPr>
              <p:spPr>
                <a:xfrm>
                  <a:off x="-936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Rectangle 3"/>
                <p:cNvSpPr/>
                <p:nvPr/>
              </p:nvSpPr>
              <p:spPr>
                <a:xfrm>
                  <a:off x="21924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1" name="Group 5"/>
              <p:cNvGrpSpPr/>
              <p:nvPr/>
            </p:nvGrpSpPr>
            <p:grpSpPr>
              <a:xfrm>
                <a:off x="413280" y="-4680"/>
                <a:ext cx="2514600" cy="6858000"/>
                <a:chOff x="413280" y="-4680"/>
                <a:chExt cx="2514600" cy="6858000"/>
              </a:xfrm>
            </p:grpSpPr>
            <p:sp>
              <p:nvSpPr>
                <p:cNvPr id="782" name="Rectangle 84"/>
                <p:cNvSpPr/>
                <p:nvPr/>
              </p:nvSpPr>
              <p:spPr>
                <a:xfrm>
                  <a:off x="132768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3" name="Rectangle 85"/>
                <p:cNvSpPr/>
                <p:nvPr/>
              </p:nvSpPr>
              <p:spPr>
                <a:xfrm>
                  <a:off x="41328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4" name="Rectangle 113"/>
                <p:cNvSpPr/>
                <p:nvPr/>
              </p:nvSpPr>
              <p:spPr>
                <a:xfrm>
                  <a:off x="64188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5" name="Group 9"/>
              <p:cNvGrpSpPr/>
              <p:nvPr/>
            </p:nvGrpSpPr>
            <p:grpSpPr>
              <a:xfrm>
                <a:off x="6620400" y="-4680"/>
                <a:ext cx="2514600" cy="6858000"/>
                <a:chOff x="6620400" y="-4680"/>
                <a:chExt cx="2514600" cy="6858000"/>
              </a:xfrm>
            </p:grpSpPr>
            <p:sp>
              <p:nvSpPr>
                <p:cNvPr id="786" name="Rectangle 77"/>
                <p:cNvSpPr/>
                <p:nvPr/>
              </p:nvSpPr>
              <p:spPr>
                <a:xfrm rot="10800000">
                  <a:off x="662040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7" name="Rectangle 78"/>
                <p:cNvSpPr/>
                <p:nvPr/>
              </p:nvSpPr>
              <p:spPr>
                <a:xfrm rot="10800000">
                  <a:off x="867780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8" name="Rectangle 80"/>
                <p:cNvSpPr/>
                <p:nvPr/>
              </p:nvSpPr>
              <p:spPr>
                <a:xfrm rot="10800000">
                  <a:off x="814464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9" name="Rectangle 74"/>
              <p:cNvSpPr/>
              <p:nvPr/>
            </p:nvSpPr>
            <p:spPr>
              <a:xfrm>
                <a:off x="3800880" y="-468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0" name="Rectangle 75"/>
              <p:cNvSpPr/>
              <p:nvPr/>
            </p:nvSpPr>
            <p:spPr>
              <a:xfrm>
                <a:off x="2886480" y="-468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1" name="Rectangle 76"/>
              <p:cNvSpPr/>
              <p:nvPr/>
            </p:nvSpPr>
            <p:spPr>
              <a:xfrm>
                <a:off x="3115080" y="-468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92" name="Freeform 44"/>
            <p:cNvSpPr/>
            <p:nvPr/>
          </p:nvSpPr>
          <p:spPr>
            <a:xfrm>
              <a:off x="-21960" y="5031000"/>
              <a:ext cx="914544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Freeform 47"/>
            <p:cNvSpPr/>
            <p:nvPr/>
          </p:nvSpPr>
          <p:spPr>
            <a:xfrm>
              <a:off x="-21960" y="3462480"/>
              <a:ext cx="914544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Freeform 48"/>
            <p:cNvSpPr/>
            <p:nvPr/>
          </p:nvSpPr>
          <p:spPr>
            <a:xfrm>
              <a:off x="-33120" y="5635800"/>
              <a:ext cx="300492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Freeform 50"/>
            <p:cNvSpPr/>
            <p:nvPr/>
          </p:nvSpPr>
          <p:spPr>
            <a:xfrm>
              <a:off x="-21960" y="5280120"/>
              <a:ext cx="914544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Freeform 51"/>
            <p:cNvSpPr/>
            <p:nvPr/>
          </p:nvSpPr>
          <p:spPr>
            <a:xfrm>
              <a:off x="2127240" y="5127840"/>
              <a:ext cx="698328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7" name="Hexagon 52"/>
            <p:cNvSpPr/>
            <p:nvPr/>
          </p:nvSpPr>
          <p:spPr>
            <a:xfrm rot="1800000">
              <a:off x="2985840" y="2854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8" name="Hexagon 53"/>
            <p:cNvSpPr/>
            <p:nvPr/>
          </p:nvSpPr>
          <p:spPr>
            <a:xfrm rot="1800000">
              <a:off x="3709440" y="4120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Hexagon 54"/>
            <p:cNvSpPr/>
            <p:nvPr/>
          </p:nvSpPr>
          <p:spPr>
            <a:xfrm rot="1800000">
              <a:off x="3719160" y="15872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Hexagon 55"/>
            <p:cNvSpPr/>
            <p:nvPr/>
          </p:nvSpPr>
          <p:spPr>
            <a:xfrm rot="1800000">
              <a:off x="2966760" y="3204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Hexagon 56"/>
            <p:cNvSpPr/>
            <p:nvPr/>
          </p:nvSpPr>
          <p:spPr>
            <a:xfrm rot="1800000">
              <a:off x="4452480" y="53784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Freeform 57"/>
            <p:cNvSpPr/>
            <p:nvPr/>
          </p:nvSpPr>
          <p:spPr>
            <a:xfrm rot="1800000">
              <a:off x="-392040" y="419760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Hexagon 58"/>
            <p:cNvSpPr/>
            <p:nvPr/>
          </p:nvSpPr>
          <p:spPr>
            <a:xfrm rot="1800000">
              <a:off x="13680" y="53974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Hexagon 59"/>
            <p:cNvSpPr/>
            <p:nvPr/>
          </p:nvSpPr>
          <p:spPr>
            <a:xfrm rot="1800000">
              <a:off x="42480" y="28443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Hexagon 60"/>
            <p:cNvSpPr/>
            <p:nvPr/>
          </p:nvSpPr>
          <p:spPr>
            <a:xfrm rot="1800000">
              <a:off x="766440" y="4120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Hexagon 61"/>
            <p:cNvSpPr/>
            <p:nvPr/>
          </p:nvSpPr>
          <p:spPr>
            <a:xfrm rot="1800000">
              <a:off x="1499760" y="54068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Hexagon 62"/>
            <p:cNvSpPr/>
            <p:nvPr/>
          </p:nvSpPr>
          <p:spPr>
            <a:xfrm rot="1800000">
              <a:off x="1518840" y="2854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Hexagon 63"/>
            <p:cNvSpPr/>
            <p:nvPr/>
          </p:nvSpPr>
          <p:spPr>
            <a:xfrm rot="1800000">
              <a:off x="785520" y="15584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Hexagon 64"/>
            <p:cNvSpPr/>
            <p:nvPr/>
          </p:nvSpPr>
          <p:spPr>
            <a:xfrm rot="1800000">
              <a:off x="6797160" y="414000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Hexagon 65"/>
            <p:cNvSpPr/>
            <p:nvPr/>
          </p:nvSpPr>
          <p:spPr>
            <a:xfrm rot="1800000">
              <a:off x="7540200" y="541620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Hexagon 66"/>
            <p:cNvSpPr/>
            <p:nvPr/>
          </p:nvSpPr>
          <p:spPr>
            <a:xfrm rot="1800000">
              <a:off x="7540200" y="286344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 rot="1800000">
              <a:off x="8298000" y="405108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Freeform 68"/>
            <p:cNvSpPr/>
            <p:nvPr/>
          </p:nvSpPr>
          <p:spPr>
            <a:xfrm rot="1800000">
              <a:off x="8297640" y="150624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4" name="Rectangle 45"/>
          <p:cNvSpPr/>
          <p:nvPr/>
        </p:nvSpPr>
        <p:spPr>
          <a:xfrm>
            <a:off x="844560" y="-27000"/>
            <a:ext cx="7386480" cy="384012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5" name="Rectangle 46" descr=""/>
          <p:cNvPicPr/>
          <p:nvPr/>
        </p:nvPicPr>
        <p:blipFill>
          <a:blip r:embed="rId2"/>
          <a:stretch/>
        </p:blipFill>
        <p:spPr>
          <a:xfrm>
            <a:off x="4743360" y="3975120"/>
            <a:ext cx="3505320" cy="23097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49"/>
          <p:cNvSpPr/>
          <p:nvPr/>
        </p:nvSpPr>
        <p:spPr>
          <a:xfrm>
            <a:off x="4741920" y="6078600"/>
            <a:ext cx="3505320" cy="824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Rectangle 88"/>
          <p:cNvSpPr/>
          <p:nvPr/>
        </p:nvSpPr>
        <p:spPr>
          <a:xfrm>
            <a:off x="4746600" y="6200640"/>
            <a:ext cx="3505320" cy="810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8" name="圖片 163" descr=""/>
          <p:cNvPicPr/>
          <p:nvPr/>
        </p:nvPicPr>
        <p:blipFill>
          <a:blip r:embed="rId3"/>
          <a:stretch/>
        </p:blipFill>
        <p:spPr>
          <a:xfrm>
            <a:off x="781200" y="37861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193320" y="5987880"/>
            <a:ext cx="2133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6222600" y="6392880"/>
            <a:ext cx="283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5568840" y="63928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875-17FE-4A2D-BA2D-510A9EB0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316-EDBA-44C8-8DFE-21FDE5C7E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圖片3"/>
          <p:cNvPicPr/>
          <p:nvPr/>
        </p:nvPicPr>
        <p:blipFill>
          <a:blip r:embed="rId2"/>
          <a:srcRect l="3308" t="36246" r="2399" b="7499"/>
          <a:stretch/>
        </p:blipFill>
        <p:spPr>
          <a:xfrm>
            <a:off x="468360" y="4799160"/>
            <a:ext cx="82090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941" name="Group 8"/>
          <p:cNvGrpSpPr/>
          <p:nvPr/>
        </p:nvGrpSpPr>
        <p:grpSpPr>
          <a:xfrm>
            <a:off x="5869080" y="333360"/>
            <a:ext cx="2950920" cy="813600"/>
            <a:chOff x="5869080" y="333360"/>
            <a:chExt cx="2950920" cy="813600"/>
          </a:xfrm>
        </p:grpSpPr>
        <p:pic>
          <p:nvPicPr>
            <p:cNvPr id="942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5869080" y="333360"/>
              <a:ext cx="29271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Text Box 10"/>
            <p:cNvSpPr/>
            <p:nvPr/>
          </p:nvSpPr>
          <p:spPr>
            <a:xfrm>
              <a:off x="6537240" y="839880"/>
              <a:ext cx="22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689-E4AC-4F53-B8D3-83640C3AD40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8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9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482-6B83-4D14-B12C-7A71AD62D8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6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7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06C-D0A6-42AB-999D-25DBCEF99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69CC-E99E-4940-9485-CF19E6930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4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5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5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0DC-A562-4842-8CC6-843537830A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3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8F04-3DDC-409D-9701-5DE41E493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1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1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180F-FE15-4DE6-87BF-9924F46271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BB93-FF48-4A34-A97F-624B94E78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2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2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2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3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3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332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66" name="Picture 10" descr="DSCN5322"/>
          <p:cNvPicPr/>
          <p:nvPr/>
        </p:nvPicPr>
        <p:blipFill>
          <a:blip r:embed="rId2"/>
          <a:srcRect l="0" t="0" r="0" b="28463"/>
          <a:stretch/>
        </p:blipFill>
        <p:spPr>
          <a:xfrm>
            <a:off x="5364000" y="4749840"/>
            <a:ext cx="3276720" cy="1757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392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1"/>
          </p:nvPr>
        </p:nvSpPr>
        <p:spPr>
          <a:xfrm>
            <a:off x="7488000" y="6502320"/>
            <a:ext cx="13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5F1C-87B2-49B4-ADCE-FDFD6DFC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3" descr="未命名 - 1"/>
          <p:cNvPicPr/>
          <p:nvPr/>
        </p:nvPicPr>
        <p:blipFill>
          <a:blip r:embed="rId3"/>
          <a:stretch/>
        </p:blipFill>
        <p:spPr>
          <a:xfrm>
            <a:off x="-54000" y="-112680"/>
            <a:ext cx="2033640" cy="1525680"/>
          </a:xfrm>
          <a:prstGeom prst="rect">
            <a:avLst/>
          </a:prstGeom>
          <a:ln w="0">
            <a:noFill/>
          </a:ln>
        </p:spPr>
      </p:pic>
      <p:pic>
        <p:nvPicPr>
          <p:cNvPr id="171" name="矩形 6" descr=""/>
          <p:cNvPicPr/>
          <p:nvPr/>
        </p:nvPicPr>
        <p:blipFill>
          <a:blip r:embed="rId4"/>
          <a:stretch/>
        </p:blipFill>
        <p:spPr>
          <a:xfrm>
            <a:off x="4029120" y="49320"/>
            <a:ext cx="4572000" cy="583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>
            <a:off x="5178240" y="6114960"/>
            <a:ext cx="3501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BCDE-4FE6-4755-B0EC-B9876C365E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3C3-DDC7-4D1C-84D4-F81EA9CA074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F36D-0182-44AF-93A3-043CF728B1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A7A0-1F79-4C8B-953A-CAD3A0E24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577-B4F9-43B4-AAE9-B7FDBC184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AppData/Local/Microsoft/Windows/Temporary%20Internet%20Files/Content.IE5/H022IQHJ/101&#23416;&#24180;&#24230;&#26032;&#21271;&#24066;&#25919;&#24220;&#25945;&#32946;&#23616;&#23565;&#21508;&#32026;&#23416;&#26657;&#37325;&#40670;&#35222;.doc" TargetMode="External"/><Relationship Id="rId2" Type="http://schemas.openxmlformats.org/officeDocument/2006/relationships/hyperlink" Target="file:///../AppData/Local/Microsoft/Windows/Temporary%20Internet%20Files/Content.IE5/H022IQHJ/101&#23416;&#24180;&#24230;&#26032;&#21271;&#24066;&#25919;&#24220;&#25945;&#32946;&#23616;&#23565;&#21508;&#32026;&#23416;&#26657;&#37325;&#40670;&#35222;.doc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129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7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101</a:t>
            </a: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學年度第</a:t>
            </a:r>
            <a:r>
              <a:rPr b="1" lang="en-US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2</a:t>
            </a: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學期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期初校務會議 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教務處報告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加退選、重修自學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加退選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三：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18-2/19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二：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1-2/2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5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前共同選修課依原選課結果上課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重修自學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5-2/27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開始申請，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3/4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開始上課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註冊、獎助學金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1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註冊單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/1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開學日發放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濟有困難的同學可至註冊組說明，可以分期繳或延後繳費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獎學金：開學後陸續有各項獎助學金可申請，部分獎項需導師協助，屆時請導師協助篩選與推薦。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454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4c600"/>
                </a:solidFill>
                <a:latin typeface="Century Gothic"/>
                <a:ea typeface="標楷體"/>
              </a:rPr>
              <a:t>期初試務規畫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/27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/28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三大學學測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一市中複習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國、英、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2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二市中複習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2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三專門學程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6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三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3/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3/8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三學術學程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關範圍及日程公告於學校首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ff"/>
                </a:solidFill>
                <a:latin typeface="Century Gothic"/>
                <a:ea typeface="標楷體"/>
              </a:rPr>
              <a:t>新年快樂</a:t>
            </a:r>
            <a:endParaRPr b="0" lang="en-US" sz="8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417" name="Picture 4" descr="MC900110698[1]"/>
          <p:cNvPicPr/>
          <p:nvPr/>
        </p:nvPicPr>
        <p:blipFill>
          <a:blip r:embed="rId1"/>
          <a:stretch/>
        </p:blipFill>
        <p:spPr>
          <a:xfrm rot="19125600">
            <a:off x="971280" y="2421000"/>
            <a:ext cx="126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26920" y="1026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教務處</a:t>
            </a: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學年度重要工作推動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執行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度高中優質化輔助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/3-103/7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高中旗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預計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/3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開始執行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高中旗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教育部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SIEP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國際交流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2/25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與日本廣島河內高校建立姊妹校簽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學年度教育部教師專業發展評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學年度高中部增班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(1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班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)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相關配套準備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國教推動相關方案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落實教育局重點視導業務推動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執行</a:t>
            </a:r>
            <a:r>
              <a:rPr b="1" lang="en-US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高中優質輔助方案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補助資本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8000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整，經常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91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重點仍聚焦在「提升學生學習成效」、「教師專業成長」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開學後即開始執行，請老師配合相關計畫執行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高中優質化計畫經常門可開始執行，本計畫請在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/1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執行完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年旗鑑計畫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/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旗鑑計畫送件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必辦項目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發展特色課程、推動教師精進教學及發展多元評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優先項目：規劃外語人才培育及國際交流活動、辦理高中特色行銷與招生宣導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SIEP</a:t>
            </a: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國際交流計畫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826920" y="2349360"/>
          <a:ext cx="7632720" cy="3959280"/>
        </p:xfrm>
        <a:graphic>
          <a:graphicData uri="http://schemas.openxmlformats.org/drawingml/2006/table">
            <a:tbl>
              <a:tblPr/>
              <a:tblGrid>
                <a:gridCol w="2376720"/>
                <a:gridCol w="2305080"/>
                <a:gridCol w="2950920"/>
              </a:tblGrid>
              <a:tr h="131940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地圖放大鏡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課程發展與教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辦理開設外語及文化課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跨海初體驗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國際交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師生出訪日本活動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網網相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82520" indent="-152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國際交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2700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參與國際網路交流計畫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7138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102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高中部增班</a:t>
            </a: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(1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班</a:t>
            </a: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相關配套準備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間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師資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招生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經費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12</a:t>
            </a: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年國教推動相關方案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優質化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教學正常化、適性輔導及品質提升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補救教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學生輟學預防與復學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十二國教政策宣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免試入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與高中學生生涯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學生學習扶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高職教師教學品質提升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身心障礙學生就學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新北市政府教育局對各級學校</a:t>
            </a:r>
            <a:br>
              <a:rPr sz="3600"/>
            </a:b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 u="sng">
                <a:solidFill>
                  <a:srgbClr val="e68200"/>
                </a:solidFill>
                <a:uFillTx/>
                <a:latin typeface="標楷體"/>
                <a:ea typeface="標楷體"/>
                <a:hlinkClick r:id="rId1"/>
              </a:rPr>
              <a:t>重點視導項目</a:t>
            </a:r>
            <a:r>
              <a:rPr b="0" lang="zh-TW" sz="3600" spc="-1" strike="noStrike" u="sng">
                <a:solidFill>
                  <a:srgbClr val="e68200"/>
                </a:solidFill>
                <a:uFillTx/>
                <a:latin typeface="標楷體"/>
                <a:ea typeface="標楷體"/>
                <a:hlinkClick r:id="rId2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一、一般教學情形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二、常態編班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三、校園巡堂紀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四、友善校園學生事務與輔導工作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五、建物安全檢查與防災演練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六、午餐衛生與校園食品安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七、水域安全及防溺宣導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八、攜手計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九、維護校園安全暨防制藥物濫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課後輔導、夜自習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826920" y="1600200"/>
          <a:ext cx="7561440" cy="4849920"/>
        </p:xfrm>
        <a:graphic>
          <a:graphicData uri="http://schemas.openxmlformats.org/drawingml/2006/table">
            <a:tbl>
              <a:tblPr/>
              <a:tblGrid>
                <a:gridCol w="1730520"/>
                <a:gridCol w="583092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事    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/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第八節課後輔導、攜手、國高中夜自習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自學夜自習開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/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三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/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三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/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一、國二、高一、高二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/2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三夜自習開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ad7374</cp:lastModifiedBy>
  <dcterms:modified xsi:type="dcterms:W3CDTF">2013-02-07T09:37:09Z</dcterms:modified>
  <cp:revision>125</cp:revision>
  <dc:subject/>
  <dc:title>96學年度第1學期期末教務會議</dc:title>
</cp:coreProperties>
</file>